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AC6-0606-447E-B8F2-E997C96C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43E-4F2B-4CAB-806D-1465A184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054-B52B-497E-B3BD-84973E9E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136-C68C-47B4-A1CA-2D846488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7812-F553-4154-8446-114C0895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E3B5-0352-4E8E-AA6C-F1288E2F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07E6-E729-4490-A06D-EDF25F88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1056-5F65-4600-8052-3F4BFC60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C165-D729-46BE-920D-3252155A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5603-9712-483E-B69A-22880463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3B0F-3820-4DA0-AFA9-83A2A0F1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BC6-6DA9-40EF-B72E-A7B9F6E8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A35B-5F99-466B-8133-DD8C86D4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3A3A-05FA-48DB-A623-EEF70215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6D01-26E4-4E22-8EDA-328A8537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70F3-92F5-40BB-8DCA-DD9EB56A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4E95-F8B3-47BC-B53D-9926BC20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232-DE7E-454F-965B-C5B19A37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F10-0D20-4EBF-BFBB-5C869D77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B3D-CD47-4929-AC04-657B681B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FFE-9828-4DEB-96A3-B8BB9321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4D9-82B1-4B66-BD5A-2664CDC4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88C-04C2-4313-9B34-8A652731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5D6-8B06-40AA-8243-F7C35EBD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B943-314F-4346-BD70-2ACB6DE1CE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1ED5-9016-4DFF-BAA3-7F9BCFD129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Go Tell The Good News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art 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12, Lesson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of 1 Corinthians 8-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143-1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8A3A-1EA2-4762-8D85-6B9F492AE5C4}" type="slidenum">
              <a:t>1</a:t>
            </a:fld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gifts, but the same Spir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activities, but the same God who works all in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gifts are given individually by the Spirit for the profit of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d has set function and abilities of different kinds in the church and they are not in competition with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33E-23F7-4FD8-B0E3-8A69EC1CE367}" type="slidenum">
              <a:t>10</a:t>
            </a:fld>
          </a:p>
        </p:txBody>
      </p:sp>
    </p:spTree>
  </p:cSld>
  <p:transition>
    <p:comb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one Spirit we were all baptized into one body, but the body is not one member but m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nestly desire the best gifts, yet love is a more excellent 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ever gift we might have, even if we give our bodies to be burned and don’t have love, we are not prof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ve never fails, spiritual gifts will c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7E5-6524-474E-B550-CF785E2858FF}" type="slidenum">
              <a:t>11</a:t>
            </a:fld>
          </a:p>
        </p:txBody>
      </p:sp>
    </p:spTree>
  </p:cSld>
  <p:transition>
    <p:comb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at which is perfect is come, then that which is in part will be done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will abide faith, hope and love, but the greatest of these is l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k to edify, to teach by your g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orderly, God is not the source of con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the women be silent (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ot taking a public ro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 in the assemb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1C0-2973-4E1A-8238-64D7E6377761}" type="slidenum">
              <a:t>12</a:t>
            </a:fld>
          </a:p>
        </p:txBody>
      </p:sp>
    </p:spTree>
  </p:cSld>
  <p:transition>
    <p:comb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each there is no resu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re is no resurrection from the dead then Christ is not ri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hrist is not risen, then preaching is vain and faith is vain and all are still in s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is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isen and has become the firstfruits of those who have d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ist will reign until all enemies are destroyed and the last enemy destroyed is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196-D37A-4BC9-82E4-C17D562BFAF2}" type="slidenum">
              <a:t>13</a:t>
            </a:fld>
          </a:p>
        </p:txBody>
      </p:sp>
    </p:spTree>
  </p:cSld>
  <p:transition>
    <p:comb dir="ver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cerning the collection for the sai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first day of the week let each one of you lay something a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as you have been prosp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al exhor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ch, stand fast in the faith, be brave, be str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all that you do be done with l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06E-5CB4-409A-9971-E4829E9F4CF4}" type="slidenum">
              <a:t>14</a:t>
            </a:fld>
          </a:p>
        </p:txBody>
      </p:sp>
    </p:spTree>
  </p:cSld>
  <p:transition>
    <p:comb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232-3A1D-45B6-B333-6F7CCB5D3F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ing things offered to idol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ave knowledge but it can puff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ve edifies and seeks to do what is good for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idol is a god, it is nothing and there is no other God but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t sacrificed to idols is not contamin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what about the weak broth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69F-5A2C-4EDF-B28A-D10404B3CDA4}" type="slidenum">
              <a:t>3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the right to eat meat sacrificed to idols cause another to defile his conscie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ware lest our liberty cause a weak brother to stum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states, “if food makes my brother stumble, I will never again eat meat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said that he had “rights”, but he hadn’t used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sked, am I not an apostle? Am I not free? Are you not my work in the Lord? Do we have no right to eat and drin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53A-9784-4A02-8426-9BA3A4C5B5FD}" type="slidenum">
              <a:t>4</a:t>
            </a:fld>
          </a:p>
        </p:txBody>
      </p:sp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had lived in whatever style necessary in order to convert men to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 your goal and strive for a c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rive for a perishable crown, but we for an imperishable 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: “I discipline my body and bring it into subjection lest I myself should become disqualifie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Jewish fathers were baptized into Moses, all ate the same spiritual food and drank the same spiritual drink ,yet most of them displeased G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example is our w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842-3D1D-4346-9324-10C589255960}" type="slidenum">
              <a:t>5</a:t>
            </a:fld>
          </a:p>
        </p:txBody>
      </p:sp>
    </p:spTree>
  </p:cSld>
  <p:transition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become idolaters, do not commit sexual immorality, do not tempt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him who thinks he stands take heed lest he 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e idolatry and judge for yourselves, the cup of blessing , is it not the communion of the blood of Christ? The bread which we break, is it not the communion of the body of Chri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not be joined to the Lord and to the Devil at the sam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9CF-1BDE-4AFB-B86F-343A918C2F37}" type="slidenum">
              <a:t>6</a:t>
            </a:fld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ings that are lawful may not be helpful or edif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offered meat without comment, eat it ,but if told it was offered to idols, don’t eat it for the sake of the one who told you and for conscience’ s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itate Paul just as he also imitated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EF1-1AC3-4A1A-8AA6-781275B5AFE1}" type="slidenum">
              <a:t>7</a:t>
            </a:fld>
          </a:p>
        </p:txBody>
      </p:sp>
    </p:spTree>
  </p:cSld>
  <p:transition>
    <p:checker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ad cov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 is head over man and man is head over wo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man who prays or prophesies with his head covered dishonors his 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woman who prays or prophesies with her head uncovered dishonors her 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 is the image and glory of God, but woman is the glory of 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5EA-0E14-49F2-B5F0-E86551DD3F2F}" type="slidenum">
              <a:t>8</a:t>
            </a:fld>
          </a:p>
        </p:txBody>
      </p:sp>
    </p:spTree>
  </p:cSld>
  <p:transition>
    <p:checke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ake of the Lord’s supper with proper rev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make it a common m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are hungry, eat and drink in your own hous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artaking of the Lord’s supper, wait for one an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read represents Christ’s body and the cup represents Christ’s b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must eat and drink in a worthy manner discerning the Lord’s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DBA-BA40-4B98-90C5-AF0EE435E07B}" type="slidenum">
              <a:t>9</a:t>
            </a:fld>
          </a:p>
        </p:txBody>
      </p:sp>
    </p:spTree>
  </p:cSld>
  <p:transition>
    <p:comb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05:56:07Z</dcterms:created>
  <dc:creator>billy lauderdale</dc:creator>
  <dc:description/>
  <dc:language>en-US</dc:language>
  <cp:lastModifiedBy>billy lauderdale</cp:lastModifiedBy>
  <dcterms:modified xsi:type="dcterms:W3CDTF">2006-12-21T22:05:11Z</dcterms:modified>
  <cp:revision>31</cp:revision>
  <dc:subject/>
  <dc:title>Go Tell The Good News Part 2</dc:title>
</cp:coreProperties>
</file>